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2C5-2E38-412C-BDB4-4C792B6B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FFD-6EC8-42EA-A941-974502E5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52D-18D4-4EFD-97EF-0A2FECEE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0C1-A841-4F8F-9F49-1A2A2CE4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4271B-DB24-492D-BC25-80029FE0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F0FBB-F4F6-45C9-AEB1-46255391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685F4-9DBD-4C16-9B3D-E0D7EC38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8CBA9-D085-4516-930F-30A24B3E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F37E-B8E7-4F26-8A33-92669A80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CAC8B-F5A0-4C8A-A862-BA4431C9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C0AC-15D6-4542-9E4B-F286F884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204-3C91-4F1D-ACD7-BEF84840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E2A6A-0415-4EED-8E24-3262D6F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3798E-A8F6-45BD-B724-0123273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0E9D8-9A28-4503-A48E-AF6C62B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FE644-AA6C-4C63-B204-5DEC45F2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6F79B-E9E8-418D-9482-C83B6FC6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F42F-F4C3-4BE0-BB26-EC901F25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CDDC-88EF-4490-B402-0E313CC4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D22F-3282-4D48-A3B8-2F970042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8735-8772-4F52-9E41-90EC53B8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2717-8A55-47E9-8BF6-51714E6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547-A962-46D8-9F62-5C594A3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E10F-6B3F-44B8-837C-92CD0332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1E2F-89EE-4B45-866E-84FAF37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42A7-4729-44E5-B265-E9C4EFD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C5A7-0C08-4CBE-AD63-FF400B0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F611-B456-4CCA-8B24-302F26E7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769D-E7B4-406D-8C10-14C554DA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2558-1203-4214-8853-003E5D1E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D9F0F-5A66-4610-834B-F15733CE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A7BAE-D796-43F6-8034-16D90CA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6A3E3-0162-49ED-AA5A-70075BD2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F5F-7247-4196-B90E-FAFD3997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1106B-E225-4C6A-9680-1B2D7717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3B848-6941-4A09-8B41-A4C1D405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D6B40-9233-444F-B011-C8A6A5B4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EFA85-BC3B-4499-8231-B30DF38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4D62B-7B1D-48DA-88A3-FB1E8DFE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CD4D7-768C-4FAA-838F-602A9A18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08657-89E2-4B6D-A950-056EFEE3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15066-C325-461C-A64E-4B0740FF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36D21-F597-46E0-81B0-FD585CCF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30742-6601-4501-945D-BCD2DEFD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134-1A60-4C2A-AB43-133082F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9CC8C-7AE4-4C4D-903F-288A2855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019D0-6A1F-48BF-8BB8-5BFC620A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8BE2B-FE09-4298-86FB-F2E2BA56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99F57-69DF-4F64-82AC-6A8A138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E6F79-59C3-44AD-A308-6A32EE77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06132-8DD7-4006-89A5-0DCF515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ECC86-2E8E-4840-8EC8-50DF1D6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2B475-645D-4814-A7CA-92448B5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F612E-08F0-4539-A90F-A4A5E58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39519-A31A-4514-BCE0-943E9A4C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86F-00DB-4C4C-B98B-4A83AE6F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7C6D2-A828-4BAD-8FBE-6D55A91D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5A8B9-32A3-43DE-9E54-5AD175A1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1C9E0-2E9C-4623-940A-2F59AD10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0BE6E-EB22-4B41-A008-00BCC58B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187D1-8A04-49C2-B014-5E095A1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0A8D8-60F1-4FC8-A4A1-9F7996CC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79752-B3D6-43C9-8A2E-21C5C69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1FB23-90EB-4BBF-9E6E-6B654A3E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AFFA3-8BED-4784-8920-21324BBE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A8996-BD02-4313-ABB6-D515730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5B6-2D44-4A4B-9011-766C6AB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C64AC-14B7-450C-91BB-6473AE5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A3834-4F0B-47DB-927C-010A8630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1D5F6-DEC5-4FDB-A55B-8E16DE1F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CFA-F14E-414C-A782-8BA27CC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DFC-31EE-4D5E-A41E-F4024FD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A34-B931-4035-A393-984E19E972F8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9F74-131C-4AD4-ADC1-ADA49731FE4D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D59C-04C1-4410-9B29-704B79966BA1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89C8-841D-4DF3-BB0E-A57E8609A2A0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1B1B-4CC8-43BE-A75A-1A834FF719BC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7F5B-11F3-4FA5-8E53-9DD5651C1FC9}" type="slidenum">
              <a:rPr b="0" lang="en-N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457200" y="4286160"/>
            <a:ext cx="8305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400" spc="-1" strike="noStrike">
                <a:solidFill>
                  <a:srgbClr val="000000"/>
                </a:solidFill>
                <a:latin typeface="Constantia"/>
              </a:rPr>
              <a:t>eHeritage Dunedin is a virtual 3D walkthrough of Dunedin, allowing users to view the city at various stages of its history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1" descr=""/>
          <p:cNvPicPr/>
          <p:nvPr/>
        </p:nvPicPr>
        <p:blipFill>
          <a:blip r:embed="rId1"/>
          <a:stretch/>
        </p:blipFill>
        <p:spPr>
          <a:xfrm>
            <a:off x="438120" y="1414440"/>
            <a:ext cx="8358120" cy="4876920"/>
          </a:xfrm>
          <a:prstGeom prst="rect">
            <a:avLst/>
          </a:prstGeom>
          <a:ln w="0">
            <a:noFill/>
          </a:ln>
        </p:spPr>
      </p:pic>
      <p:pic>
        <p:nvPicPr>
          <p:cNvPr id="255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Database scripts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uilding GIS data – obtained from DCC or input using ArcG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ase SketchUp model (untextured) finished for 200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rcRect l="26339" t="31435" r="25005" b="20004"/>
          <a:stretch/>
        </p:blipFill>
        <p:spPr>
          <a:xfrm>
            <a:off x="1066680" y="3929040"/>
            <a:ext cx="2862360" cy="1785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3"/>
          <a:srcRect l="26339" t="31435" r="25005" b="20004"/>
          <a:stretch/>
        </p:blipFill>
        <p:spPr>
          <a:xfrm>
            <a:off x="5000760" y="3929040"/>
            <a:ext cx="2862000" cy="1785960"/>
          </a:xfrm>
          <a:prstGeom prst="rect">
            <a:avLst/>
          </a:prstGeom>
          <a:ln w="0">
            <a:noFill/>
          </a:ln>
        </p:spPr>
      </p:pic>
      <p:sp>
        <p:nvSpPr>
          <p:cNvPr id="260" name="Right Arrow 5"/>
          <p:cNvSpPr/>
          <p:nvPr/>
        </p:nvSpPr>
        <p:spPr>
          <a:xfrm>
            <a:off x="4143240" y="464328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135080" y="57862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Century"/>
              </a:rPr>
              <a:t>ArcG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5056920" y="57862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Century"/>
              </a:rPr>
              <a:t>Sketch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25/09/09 – get in touch with Rob Garrett re:  DCC GIS da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HOLIDAY WORK – Get ArcGIS functional, to interpret GIS da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16/10/09 – ArcGIS to SketchUp da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23/10/09 – SketchUp base model finished (for 2009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30/10/09 – Database scripts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Week ending 06/11/11 – Database popul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3D modelling continuously throughout this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entury"/>
              </a:rPr>
              <a:t>Third Iteration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Database to model communication – 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Implement other years (maybe just the three periods they want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User interface implemen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3D building text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User testing – navig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2:35:23Z</dcterms:created>
  <dc:creator>moskaac1</dc:creator>
  <dc:description/>
  <dc:language>en-US</dc:language>
  <cp:lastModifiedBy>MOSKAAC1</cp:lastModifiedBy>
  <dcterms:modified xsi:type="dcterms:W3CDTF">2009-09-21T22:04:41Z</dcterms:modified>
  <cp:revision>12</cp:revision>
  <dc:subject/>
  <dc:title>eHeritage Dunedin 2nd Iteration Presentation</dc:title>
</cp:coreProperties>
</file>